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6.gif" ContentType="image/gif"/>
  <Override PartName="/ppt/media/image7.jpeg" ContentType="image/jpe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00AF-1965-45AA-9253-7B3ABF703FBD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7744-848A-4AD5-B356-2D734C1BA8B6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7556-B8BA-4C8F-A2BC-7B207A0070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1660-5131-4EE5-A323-BC7A26D5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CDE-AA84-4A55-96C3-B3D4B633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429-3B86-4D30-A0F0-BE12D463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5DD4-8C0E-468E-BD4E-80432ADE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D185-3387-48F2-8791-FE7B0393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6E5-6A42-4E37-8829-F08B48A1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877-99DA-4EBA-8736-CEF7EB98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0DC-40A1-4218-BC51-B42DC1B3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82F-5879-4BC3-8CFC-2796C7F9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6E4-9C66-4FB0-BC5C-67479A0E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78FB-10CE-4F9E-81C1-5FC572DC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8BC9-1F09-46D2-9B5C-6B5CD755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1C32-8ED4-40A2-8E99-DF7EA94EE4DA}" type="slidenum">
              <a:rPr b="0" lang="ro-RO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întâlnim fracţii în viaţa de zi cu z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WordArt 7" descr=""/>
          <p:cNvPicPr/>
          <p:nvPr/>
        </p:nvPicPr>
        <p:blipFill>
          <a:blip r:embed="rId1"/>
          <a:stretch/>
        </p:blipFill>
        <p:spPr>
          <a:xfrm>
            <a:off x="573120" y="1494000"/>
            <a:ext cx="8021520" cy="2114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Calibri"/>
              </a:rPr>
              <a:t>Întrebările unitatăţii de învăţa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142920" y="2358360"/>
            <a:ext cx="8786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De ce trebuie să cunoaştem noţiunea de fracţie?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Cum ne ajută folosirea acestor noţiuni în rezolvarea problemelor cu conţinut practic?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ff"/>
                </a:solidFill>
                <a:latin typeface="Calibri"/>
              </a:rPr>
              <a:t>TO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RTUL SILVIEI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68360" y="170028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714240" y="1143000"/>
            <a:ext cx="7777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ilvia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a dorit să-i facă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ratelui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o surpriză de ziua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ui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şi să-i pregătească prăjitura preferat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Deoarece s-ar putea să vină şi musafiri fetiţa şi-a dat seama că reţeta trebuie să fie dublat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Ingredientele din reţeta mamei erau acestea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214720" y="300024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900000" y="2852640"/>
            <a:ext cx="7272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can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 de zahă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kg. de f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ină grâ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1şi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8 pahar ule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ou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l lap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1071720" y="535788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ide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ţi să o ajutăm să pregătească în mod corect toate cantităţile 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2411280" y="5661000"/>
            <a:ext cx="43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572080" y="2786040"/>
            <a:ext cx="2957400" cy="2214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5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50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500"/>
                            </p:stCondLst>
                            <p:childTnLst>
                              <p:par>
                                <p:cTn id="72" nodeType="after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60" y="2676240"/>
            <a:ext cx="360" cy="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Object 3"/>
              <p:cNvSpPr txBox="1"/>
              <p:nvPr/>
            </p:nvSpPr>
            <p:spPr>
              <a:xfrm>
                <a:off x="9029880" y="256716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360" y="4979520"/>
            <a:ext cx="360" cy="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8004240" y="3903840"/>
                <a:ext cx="1139760" cy="21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5" name="Rectangle 30"/>
          <p:cNvSpPr/>
          <p:nvPr/>
        </p:nvSpPr>
        <p:spPr>
          <a:xfrm>
            <a:off x="7920" y="458424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7"/>
              <p:cNvSpPr txBox="1"/>
              <p:nvPr/>
            </p:nvSpPr>
            <p:spPr>
              <a:xfrm>
                <a:off x="755640" y="333360"/>
                <a:ext cx="7129440" cy="561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ană</m:t>
                        </m:r>
                        <m:r>
                          <m:rPr>
                            <m:lit/>
                            <m:nor/>
                          </m:rPr>
                          <m:t xml:space="preserve">zahă</m:t>
                        </m:r>
                        <m:r>
                          <m:t xml:space="preserve">r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litri  </m:t>
                        </m:r>
                        <m:r>
                          <m:rPr>
                            <m:lit/>
                            <m:nor/>
                          </m:rPr>
                          <m:t xml:space="preserve">lapte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32"/>
          <p:cNvSpPr/>
          <p:nvPr/>
        </p:nvSpPr>
        <p:spPr>
          <a:xfrm>
            <a:off x="3132000" y="1916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g </a:t>
            </a:r>
            <a:r>
              <a:rPr b="0" i="1" lang="ro-RO" sz="2800" spc="-1" strike="noStrike">
                <a:solidFill>
                  <a:srgbClr val="000000"/>
                </a:solidFill>
                <a:latin typeface="Verdana"/>
              </a:rPr>
              <a:t>făin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7885080" y="3068640"/>
            <a:ext cx="12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Verdana"/>
              </a:rPr>
              <a:t>Pahare ule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Text Box 34"/>
          <p:cNvSpPr/>
          <p:nvPr/>
        </p:nvSpPr>
        <p:spPr>
          <a:xfrm>
            <a:off x="2195640" y="5445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Verdana"/>
              </a:rPr>
              <a:t>ou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" name="Picture 12" descr="C:\Users\User\Desktop\tort[2].gif"/>
          <p:cNvPicPr/>
          <p:nvPr/>
        </p:nvPicPr>
        <p:blipFill>
          <a:blip r:embed="rId3"/>
          <a:stretch/>
        </p:blipFill>
        <p:spPr>
          <a:xfrm>
            <a:off x="6357960" y="642960"/>
            <a:ext cx="1533600" cy="1542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C:\Users\User\Desktop\wedding-cake9[1].gif"/>
          <p:cNvPicPr/>
          <p:nvPr/>
        </p:nvPicPr>
        <p:blipFill>
          <a:blip r:embed="rId4"/>
          <a:stretch/>
        </p:blipFill>
        <p:spPr>
          <a:xfrm>
            <a:off x="6286680" y="485784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44000" cy="22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eoarece feti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ţa ştie de la mama ei că reţeta este valabilă pentru 4 persoane oare pentru câte a pregătit acum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?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9640" y="2401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5" descr="C:\Users\User\Desktop\post-31247-1179881473[1].jpg"/>
          <p:cNvPicPr/>
          <p:nvPr/>
        </p:nvPicPr>
        <p:blipFill>
          <a:blip r:embed="rId1"/>
          <a:stretch/>
        </p:blipFill>
        <p:spPr>
          <a:xfrm>
            <a:off x="928800" y="4071960"/>
            <a:ext cx="2227320" cy="1857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C:\Users\User\Desktop\wedding-cake15[1].gif"/>
          <p:cNvPicPr/>
          <p:nvPr/>
        </p:nvPicPr>
        <p:blipFill>
          <a:blip r:embed="rId2"/>
          <a:stretch/>
        </p:blipFill>
        <p:spPr>
          <a:xfrm>
            <a:off x="5643720" y="392904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ROVOCAREA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e cantit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ăţ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 ar fi fost necesare pentru 16 persoan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 Cum a calcula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can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ă zahă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2 kg făin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4+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/2pahare ule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2 ou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3 l lap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e ai de f</a:t>
            </a:r>
            <a:r>
              <a:rPr b="0" lang="ro-RO" sz="4400" spc="-1" strike="noStrike">
                <a:solidFill>
                  <a:srgbClr val="ffffff"/>
                </a:solidFill>
                <a:latin typeface="Calibri"/>
              </a:rPr>
              <a:t>ă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alizeaz</a:t>
            </a:r>
            <a:r>
              <a:rPr b="0" lang="ro-RO" sz="3600" spc="-1" strike="noStrike">
                <a:solidFill>
                  <a:srgbClr val="ffffff"/>
                </a:solidFill>
                <a:latin typeface="Calibri"/>
              </a:rPr>
              <a:t>ă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o prezentare Power Point in care s</a:t>
            </a:r>
            <a:r>
              <a:rPr b="0" lang="ro-RO" sz="3600" spc="-1" strike="noStrike">
                <a:solidFill>
                  <a:srgbClr val="ffffff"/>
                </a:solidFill>
                <a:latin typeface="Calibri"/>
              </a:rPr>
              <a:t>ă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aplic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 cunoştinţele învăţat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pre frac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 în viaţa de zi cu z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bili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ţ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impreun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u colegii vo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ş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i o schit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 prezent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i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ce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ţ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un inventar al lucrurilor pe care le ave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ţ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de f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t, repartiza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ţ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sarcinile 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ş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stabil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ţ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i termene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ermenul de finalizare a prezent</a:t>
            </a:r>
            <a:r>
              <a:rPr b="0" lang="ro-RO" sz="3200" spc="-1" strike="noStrike">
                <a:solidFill>
                  <a:srgbClr val="ffff00"/>
                </a:solidFill>
                <a:latin typeface="Calibri"/>
              </a:rPr>
              <a:t>ă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ii ……ora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 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eeece1"/>
                </a:solidFill>
                <a:latin typeface="Calibri"/>
              </a:rPr>
              <a:t>ai la dispozitie 2 ore in clasa si va recomand 3 ore de lucru acas</a:t>
            </a:r>
            <a:r>
              <a:rPr b="0" lang="ro-RO" sz="1800" spc="-1" strike="noStrike">
                <a:solidFill>
                  <a:srgbClr val="eeece1"/>
                </a:solidFill>
                <a:latin typeface="Calibri"/>
              </a:rPr>
              <a:t>ă</a:t>
            </a:r>
            <a:r>
              <a:rPr b="0" lang="en-US" sz="1800" spc="-1" strike="noStrike">
                <a:solidFill>
                  <a:srgbClr val="eeece1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429000" y="59436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mari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 lista de verificar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85800" y="304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comand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33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Verdana"/>
              </a:rPr>
              <a:t>Surse de informar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Text Box 1036"/>
          <p:cNvSpPr/>
          <p:nvPr/>
        </p:nvSpPr>
        <p:spPr>
          <a:xfrm>
            <a:off x="457200" y="190512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ww.didactic.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ww.descopera.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ww.wikipedia.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4T16:47:53Z</dcterms:created>
  <dc:creator>Albert</dc:creator>
  <dc:description/>
  <dc:language>en-US</dc:language>
  <cp:lastModifiedBy>User</cp:lastModifiedBy>
  <dcterms:modified xsi:type="dcterms:W3CDTF">2011-01-26T16:58:36Z</dcterms:modified>
  <cp:revision>36</cp:revision>
  <dc:subject/>
  <dc:title>Vă prezentăm membrii grupei nr. 1</dc:title>
</cp:coreProperties>
</file>